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6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7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8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9000D-E572-467E-90B2-B71E1C2282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A0EBF-41EF-419F-889C-6E12226505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s of activity-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ver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95478-0D0E-43A4-8E8C-10A3917DE0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42689-DEE4-49E5-8088-0057491475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6727A-F661-4786-8B2C-1859D97EBF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6B00E-1291-49B5-8919-EC81AA0B7B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72BCE-8190-407C-8891-742AA5A224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E2CB8-8C8C-4F7F-A759-D0CC956A44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7537D-5E79-4022-8210-E5AD694EB8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1DBE2-B533-4FBC-883F-9C155E3589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ity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75C6B-89FC-4746-B74C-87B1294DD4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5EE128-7D50-4173-AFFA-4BE3147852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E3815E-614E-4B43-9807-ABAEAE6524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6CAB99-44E2-4495-BFB7-079842C704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EDAFB7-5DC1-4313-B794-EFA91662D55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7F074A-1CF9-4587-A9E7-802CFDA70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4DB597-FCF4-4717-A595-AEC92CF9F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B1180E-AFDC-4744-9B84-1AFCCAB33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C6AE11-6495-41AD-912E-88FCAC19F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551DCC-7605-4453-BFBD-9D3F6958D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6094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43AABE-90E2-499C-B543-C2A0BEE7C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3CC5FC-A962-4A65-9657-EEA9397D1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F6E656-D73E-4E1D-824C-7B2C6FFAE3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F9BAC0-D2B4-4E63-9856-B50C6E479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DE55EE-371E-47BB-BDB9-72CAE3E97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B6AE44-C709-4D8F-84D7-C91E5D377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3AFEB7-EA81-4597-95BC-206F44A65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05CD3D-AC5C-4375-A802-7205B5E7F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143474-DF24-497E-9F6F-1A834426D2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3A629D-558D-4528-A7B5-06504E08C4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160EF2-7A60-4E6A-9D22-509D6916E7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6094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51BA47-EAF1-4F3D-A694-1B08D0C6CA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B792C0-F776-4F04-A974-65DDE5A050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622C73-6A25-45D6-A514-BBF974DE85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E059D9-AACA-49DB-A3F4-69111F27FC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095880"/>
            <a:ext cx="4114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27789-790B-4267-A2AD-0ECF113A615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B0B62-97E1-421B-8836-8E17505C283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estgard Multirule Syste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066320"/>
            <a:ext cx="762012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“multi-rule” system developed by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r. James O. Westgard based on statistical concep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combination of decision criteria or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ules to assess if a system is in contro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when at least 2 levels of control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e run with the examination ru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nnot use with only one contro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5" name="Picture 9" descr="westgard_lecturing"/>
          <p:cNvPicPr/>
          <p:nvPr/>
        </p:nvPicPr>
        <p:blipFill>
          <a:blip r:embed="rId1"/>
          <a:stretch/>
        </p:blipFill>
        <p:spPr>
          <a:xfrm>
            <a:off x="2971800" y="4191120"/>
            <a:ext cx="3657600" cy="236844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10"/>
          <p:cNvSpPr/>
          <p:nvPr/>
        </p:nvSpPr>
        <p:spPr>
          <a:xfrm>
            <a:off x="6095880" y="4495680"/>
            <a:ext cx="2210040" cy="3988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Dr. Westg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F3B5E5-4C1A-4AAD-B676-55F7C4E2633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8305920" cy="281952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457200" y="3429000"/>
            <a:ext cx="8358120" cy="2832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EB6510-03B8-4564-AC96-F747C224F10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55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Answers for activit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447920"/>
            <a:ext cx="83059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21, 22, 24, 26, 27, 30, 31, 33, 34, 36-44 – in control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23, 28, 29 – 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2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25 - 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3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32 – 2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2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35 - 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4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249C76-C77D-4F10-BF45-81D3444B555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Footer Placeholder 1"/>
          <p:cNvSpPr/>
          <p:nvPr/>
        </p:nvSpPr>
        <p:spPr>
          <a:xfrm>
            <a:off x="457200" y="6248520"/>
            <a:ext cx="4343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2296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Multirule System Titles</a:t>
            </a: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br>
              <a:rPr sz="2400"/>
            </a:b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657600" cy="252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0000"/>
          </a:bodyPr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2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3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2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R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4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1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10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657600" y="1599840"/>
            <a:ext cx="4191120" cy="15238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Text Box 8"/>
          <p:cNvSpPr/>
          <p:nvPr/>
        </p:nvSpPr>
        <p:spPr>
          <a:xfrm>
            <a:off x="4419720" y="1600200"/>
            <a:ext cx="3809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Used when 2 levels of control material are analyzed per ru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9"/>
          <p:cNvSpPr/>
          <p:nvPr/>
        </p:nvSpPr>
        <p:spPr>
          <a:xfrm>
            <a:off x="1752480" y="5486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11" descr="j0082253"/>
          <p:cNvPicPr/>
          <p:nvPr/>
        </p:nvPicPr>
        <p:blipFill>
          <a:blip r:embed="rId1"/>
          <a:stretch/>
        </p:blipFill>
        <p:spPr>
          <a:xfrm>
            <a:off x="6019920" y="3124080"/>
            <a:ext cx="2501640" cy="30481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2CC12F-9127-4C1E-AE9A-8D02BA1A398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1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2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WARNING RULE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– not cause for rejecting a ru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ne of two control results falls outside ±2S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erts technologist to possible problem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st then evaluate the 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3S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u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FC6100-826B-423A-92A1-CA48C135EA5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antitative QC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01640"/>
            <a:ext cx="8229600" cy="7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2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2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wo consecutive control values for the same level fall outside of ±2SD in the same direction, 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oth controls in the same run exceed ±2SD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atient results cannot be reporte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s corrective ac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E8E84A-C03E-403D-855A-96D91910DD3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R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4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ne control exceeds the mean by –2SD, and the other control exceeds the mean by +2S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range between the two results will therefore exceed 4 S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andom error has occurred, test run must be rejecte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548972-4367-4A25-814A-086A7B6C696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4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1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7848360" cy="366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s control data from previous ru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 consecutive QC results for one level of control are outside ±1SD, 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oth levels of control have consecutive results that are outside ±1S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733173-868A-4757-B8E7-A02943C6FFE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10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X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8229600" cy="333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s control data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evious ru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en consecutive QC results for one level of control are on one side of the mean, 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oth levels of control have five consecutive results that are on the same side of the me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Line 5"/>
          <p:cNvSpPr/>
          <p:nvPr/>
        </p:nvSpPr>
        <p:spPr>
          <a:xfrm>
            <a:off x="4724280" y="838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9AD861-B1C5-4844-949D-50E46FA5EBF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Westgard Multirule QC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47" name="Picture 3" descr="flow3"/>
          <p:cNvPicPr/>
          <p:nvPr/>
        </p:nvPicPr>
        <p:blipFill>
          <a:blip r:embed="rId1"/>
          <a:stretch/>
        </p:blipFill>
        <p:spPr>
          <a:xfrm>
            <a:off x="762120" y="1295280"/>
            <a:ext cx="7772400" cy="481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821C95-B9AF-43BE-9B42-4A3BC8F8133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65280"/>
            <a:ext cx="7772400" cy="66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99"/>
                </a:solidFill>
                <a:latin typeface="Verdana"/>
              </a:rPr>
              <a:t>Activity</a:t>
            </a:r>
            <a:br>
              <a:rPr sz="3800"/>
            </a:br>
            <a:endParaRPr b="0" lang="en-US" sz="38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837720" y="1371600"/>
            <a:ext cx="7239240" cy="287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Verdana"/>
              </a:rPr>
              <a:t>Using the Westgard Multirule System, describe the control values for each day in the following slide.</a:t>
            </a:r>
            <a:endParaRPr b="0" lang="en-US" sz="4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D35F19-2357-40A4-96C1-BB901A23867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8T02:26:00Z</dcterms:created>
  <dc:creator>Robin Barteluk</dc:creator>
  <dc:description/>
  <dc:language>en-US</dc:language>
  <cp:lastModifiedBy>Robin Barteluk</cp:lastModifiedBy>
  <dcterms:modified xsi:type="dcterms:W3CDTF">2008-11-27T20:41:53Z</dcterms:modified>
  <cp:revision>4</cp:revision>
  <dc:subject/>
  <dc:title>Westgard Multirule System</dc:title>
</cp:coreProperties>
</file>